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EB5-2D92-4375-9837-72DE1271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5D43-F2DB-494D-BD59-FC7A0506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7A91-D1BD-4946-90D7-02870BC9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DB0-5B82-4745-B975-0A91A77CD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9701-36BE-4390-8056-C54FB876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AF68-9BEB-4CFA-BBC1-94CEBA81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21BF-BE24-4EDF-AA56-A6A2B80D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5280-6405-41A3-9BDA-4BD3F642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FBC0-F37F-433D-A0E8-0DD22521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DBCB-FC84-4122-BC0A-4B947CD3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5F7B-92FE-4A12-B7F2-D04B1E6A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BC3F-6D21-4133-8850-29E5CE33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2EA6-5D39-4E47-A494-8DCF9778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EC0F-A23E-4D6F-A821-861C0A3C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27DA-A789-4F24-8645-00967384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F6A5-20FF-4D0C-AFCD-6005715AA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87A3-E779-4FCA-9F6D-ABB6903C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3A0-0096-4C76-82DE-E7E6629D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D59-1414-46AD-8A93-9282929D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4EA-7F26-4847-BA0D-4A5B1D30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10D-EF8C-47F9-B9D8-C740C6C9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952A-7EFD-4061-84D3-BCF747FD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C01-F7D0-42AB-88C7-E1A70562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783-32D9-4655-B7AF-CFE62967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6C80-91AA-4900-B483-6E5E8CA1F2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C:\WINNT\Profiles\rebeccal\Personal\pics\strtegic1.jpg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42D3-6896-4BD3-8522-F6D1E1C0D252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arn.co.uk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86950"/>
                </a:solidFill>
                <a:latin typeface="Times New Roman"/>
              </a:rPr>
              <a:t>German Foreign Policy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86950"/>
                </a:solidFill>
                <a:latin typeface="Times New Roman"/>
              </a:rPr>
              <a:t>1933 - 19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410080" y="5943600"/>
            <a:ext cx="344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esentation by Mr Yo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701028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C:\My Documents\My Webs\Myweb\SchoolHist\images\logosupsm.gif"/>
          <p:cNvPicPr/>
          <p:nvPr/>
        </p:nvPicPr>
        <p:blipFill>
          <a:blip r:embed="rId1"/>
          <a:stretch/>
        </p:blipFill>
        <p:spPr>
          <a:xfrm>
            <a:off x="7010280" y="6248520"/>
            <a:ext cx="190836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stria is even weaker than in 19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aly is now your 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 have many supporters in Austria, who can help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on with Austria is forbidden by the Treaty of Versa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60199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http://www.spartacus.schoolnet.co.uk/2WWgerma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3124080"/>
            <a:ext cx="2054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3" dur="1" fill="hold"/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sending troops to V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thing, its not worth annoying France, Britain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434340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politic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962520" y="2057400"/>
            <a:ext cx="2438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WordArt 8"/>
          <p:cNvSpPr txBox="1"/>
          <p:nvPr/>
        </p:nvSpPr>
        <p:spPr>
          <a:xfrm>
            <a:off x="72388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Czechoslovak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44956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ree million German speakers live in Czechoslovaki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Czechoslovakia has a strong army and alliances with Britain, France and the Soviet Un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Victory over the Czechs will finally destroy the Treaty of Versail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army is unwilling to fight over the Sudetenl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60199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5053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6" descr="http://www.spartacus.schoolnet.co.uk/2WWappease.JPG"/>
          <p:cNvPicPr/>
          <p:nvPr/>
        </p:nvPicPr>
        <p:blipFill>
          <a:blip r:embed="rId1"/>
          <a:stretch/>
        </p:blipFill>
        <p:spPr>
          <a:xfrm>
            <a:off x="6324480" y="3657600"/>
            <a:ext cx="21337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5" dur="1" fill="hold"/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Czechoslovak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ade Czechoslovakia and hope the army follows your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aten the Czechs and make a deal with Britain and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343400" y="1905120"/>
            <a:ext cx="2362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 a deal with Russia and hope Britain and France ignore your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9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Czechoslovak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962520" y="2057400"/>
            <a:ext cx="2438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72388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Poland 1939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fter victory over the Czechs you can’t do wro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oland splits German land and holds the German city of Danzi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Poland has an alliance with Britain and Fr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Soviet Union could be a threat, the Red Army could easily help the Po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0199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98612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6" descr="http://www.spartacus.schoolnet.co.uk/JlowSp.jpg"/>
          <p:cNvPicPr/>
          <p:nvPr/>
        </p:nvPicPr>
        <p:blipFill>
          <a:blip r:embed="rId1"/>
          <a:stretch/>
        </p:blipFill>
        <p:spPr>
          <a:xfrm>
            <a:off x="5562720" y="2514600"/>
            <a:ext cx="3581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7" dur="1" fill="hold"/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Poland 1939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a Deal with Russia to split Poland betwee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op now, you’ve already achieved most of your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343400" y="1905120"/>
            <a:ext cx="259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ade Poland without any agreements no-one can stop you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Poland 1939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3962520" y="2057400"/>
            <a:ext cx="2438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WordArt 8"/>
          <p:cNvSpPr txBox="1"/>
          <p:nvPr/>
        </p:nvSpPr>
        <p:spPr>
          <a:xfrm>
            <a:off x="72388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Add up your scor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are an expert in foreign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 is your job to advise the new leaders of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will be told about various problems and given a choice of three policies to fol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oose wisely.  Your success will be rewarded.  Failure will be punish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20 - 150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r advice has been superb for the outside world as war has been avo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your advice has not been good for you.  The Gestapo have arrested you and you are never seen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90 – 110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’re not the expert the Nazi party thought you were. You’ve missed many opportunities to expand Germany’s population and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have been demoted but you still have a comfortable life in Ber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6" dur="1" fill="hold"/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50 – 80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ntastic! you have made Germany strong again, the Treaty is a thing of the past and Germany is well prepared in case war co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 have been rewarded with promotion in the Nazi party and all the privileges of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6" dur="1" fill="hold"/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What did Hitler do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tria 19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hineland 19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stria 19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zechoslovakia 19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land 19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7" descr="http://www.spartacus.schoolnet.co.uk/Low1.jpg"/>
          <p:cNvPicPr/>
          <p:nvPr/>
        </p:nvPicPr>
        <p:blipFill>
          <a:blip r:embed="rId1"/>
          <a:stretch/>
        </p:blipFill>
        <p:spPr>
          <a:xfrm>
            <a:off x="5181480" y="2057400"/>
            <a:ext cx="3810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5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1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7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3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7" dur="1" fill="hold"/>
                                  <p:tgtEl>
                                    <p:spTgt spid="19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What did Hitler do?</a:t>
            </a:r>
            <a:br>
              <a:rPr sz="4400"/>
            </a:b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sending troops to V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thing, its not worth annoying France, Britain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34340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politic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" name="WordArt 10"/>
          <p:cNvSpPr txBox="1"/>
          <p:nvPr/>
        </p:nvSpPr>
        <p:spPr>
          <a:xfrm rot="5400000">
            <a:off x="2019240" y="171432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4" name="WordArt 11"/>
          <p:cNvSpPr txBox="1"/>
          <p:nvPr/>
        </p:nvSpPr>
        <p:spPr>
          <a:xfrm rot="5400000">
            <a:off x="7314840" y="1905120"/>
            <a:ext cx="1600200" cy="2057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2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What did Hitler do?</a:t>
            </a:r>
            <a:br>
              <a:rPr sz="4400"/>
            </a:b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Rhineland 1936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514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nd in the troops. France is divided and Britain wants pe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thing, you can’t risk war with France.  Germany is too w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4343400" y="1905120"/>
            <a:ext cx="2362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k permission from the Allies before doing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WordArt 9"/>
          <p:cNvSpPr txBox="1"/>
          <p:nvPr/>
        </p:nvSpPr>
        <p:spPr>
          <a:xfrm rot="5400000">
            <a:off x="4381200" y="171432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3" name="WordArt 10"/>
          <p:cNvSpPr txBox="1"/>
          <p:nvPr/>
        </p:nvSpPr>
        <p:spPr>
          <a:xfrm rot="5400000">
            <a:off x="7200720" y="179064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What did Hitler do?</a:t>
            </a:r>
            <a:br>
              <a:rPr sz="4400"/>
            </a:b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sending troops to V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thing, its not worth annoying France, Britain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34340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politic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0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WordArt 9"/>
          <p:cNvSpPr txBox="1"/>
          <p:nvPr/>
        </p:nvSpPr>
        <p:spPr>
          <a:xfrm rot="5400000">
            <a:off x="7200720" y="171432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4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What did Hitler do?</a:t>
            </a:r>
            <a:br>
              <a:rPr sz="4400"/>
            </a:b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Czechoslovakia 1938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ade Czechoslovakia and hope the army follows your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aten the Czechs and make a deal with Britain and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343400" y="1905120"/>
            <a:ext cx="2362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ke a deal with Russia and hope Britain and France ignore your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WordArt 10"/>
          <p:cNvSpPr txBox="1"/>
          <p:nvPr/>
        </p:nvSpPr>
        <p:spPr>
          <a:xfrm rot="5400000">
            <a:off x="4762440" y="171432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0" name="WordArt 11"/>
          <p:cNvSpPr txBox="1"/>
          <p:nvPr/>
        </p:nvSpPr>
        <p:spPr>
          <a:xfrm rot="5400000">
            <a:off x="1942920" y="171432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What did Hitler do?</a:t>
            </a:r>
            <a:br>
              <a:rPr sz="4400"/>
            </a:b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Poland 1939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a Deal with Russia to split Poland between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op now, you’ve already achieved most of your 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4343400" y="1905120"/>
            <a:ext cx="259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vade Poland without any agreements no-one can stop you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7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WordArt 9"/>
          <p:cNvSpPr txBox="1"/>
          <p:nvPr/>
        </p:nvSpPr>
        <p:spPr>
          <a:xfrm rot="5400000">
            <a:off x="4762440" y="171432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9" name="WordArt 10"/>
          <p:cNvSpPr txBox="1"/>
          <p:nvPr/>
        </p:nvSpPr>
        <p:spPr>
          <a:xfrm rot="5400000">
            <a:off x="7200720" y="1638000"/>
            <a:ext cx="160020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Did Hitler follow a successful Foreign Policy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py the title into your boo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Answer the question as a piece of extended 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Did Hitler achieve all his ai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Did Hitler’s policies cause the w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Did the war ultimately make Germany weak or st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 flipV="1">
            <a:off x="5334120" y="2058480"/>
            <a:ext cx="9144000" cy="41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5" descr="http://www.spartacus.schoolnet.co.uk/GERhitler2.JPG"/>
          <p:cNvPicPr/>
          <p:nvPr/>
        </p:nvPicPr>
        <p:blipFill>
          <a:blip r:embed="rId1"/>
          <a:stretch/>
        </p:blipFill>
        <p:spPr>
          <a:xfrm>
            <a:off x="5727600" y="1981080"/>
            <a:ext cx="2792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4" dur="3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9" dur="3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5" dur="3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1" dur="3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7" dur="3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1" dur="1" fill="hold"/>
                                  <p:tgtEl>
                                    <p:spTgt spid="2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Mein Kampf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Your policy has very clear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Destroy the Treaty of Versa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Gain ‘Lebensraum’ (living space) in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Bring all Germans into one 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6600"/>
                </a:solidFill>
                <a:latin typeface="Times New Roman"/>
              </a:rPr>
              <a:t>Make Germany strong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 flipV="1">
            <a:off x="5334120" y="2058480"/>
            <a:ext cx="9144000" cy="41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7" descr="http://www.spartacus.schoolnet.co.uk/GERhitler2.JPG"/>
          <p:cNvPicPr/>
          <p:nvPr/>
        </p:nvPicPr>
        <p:blipFill>
          <a:blip r:embed="rId1"/>
          <a:stretch/>
        </p:blipFill>
        <p:spPr>
          <a:xfrm>
            <a:off x="5727600" y="1981080"/>
            <a:ext cx="2792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3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3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3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3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3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44956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Depression has made Austria w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king over Austria will be very popular in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will bring many Germans into the 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 other countries might oppose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0199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http://www.spartacus.schoolnet.co.uk/2WWgermanA.jpg"/>
          <p:cNvPicPr/>
          <p:nvPr/>
        </p:nvPicPr>
        <p:blipFill>
          <a:blip r:embed="rId1"/>
          <a:stretch/>
        </p:blipFill>
        <p:spPr>
          <a:xfrm>
            <a:off x="6781680" y="3124080"/>
            <a:ext cx="2054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9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sending troops to Vi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WordArt 5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thing, its not worth annoying France, Britain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34340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y to take over Austria by political pres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WordArt 9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Austria 1934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962520" y="2057400"/>
            <a:ext cx="2438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WordArt 8"/>
          <p:cNvSpPr txBox="1"/>
          <p:nvPr/>
        </p:nvSpPr>
        <p:spPr>
          <a:xfrm>
            <a:off x="72388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Rhineland 1936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4496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aly has invaded Ethio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league of Nations is di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le the League is divided you could send troops to the Rhine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 careful! Any opposition and you’ll have to withd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0199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http://www.spartacus.schoolnet.co.uk/ENCgermany.JPG"/>
          <p:cNvPicPr/>
          <p:nvPr/>
        </p:nvPicPr>
        <p:blipFill>
          <a:blip r:embed="rId1"/>
          <a:stretch/>
        </p:blipFill>
        <p:spPr>
          <a:xfrm>
            <a:off x="6629400" y="2514600"/>
            <a:ext cx="247968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8838b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Rhineland 1936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514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nd in the troops. France is divided and Britain wants pe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 nothing, you can’t risk war with France.  Germany is too we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343400" y="1905120"/>
            <a:ext cx="2362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k permission from the Allies before doing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WordArt 8"/>
          <p:cNvSpPr txBox="1"/>
          <p:nvPr/>
        </p:nvSpPr>
        <p:spPr>
          <a:xfrm>
            <a:off x="75438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00"/>
                </a:solidFill>
                <a:latin typeface="Times New Roman"/>
              </a:rPr>
              <a:t>Crisis: Rhineland 1936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1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19810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781680" y="1828800"/>
            <a:ext cx="236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3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962520" y="2057400"/>
            <a:ext cx="2438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20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WordArt 7"/>
          <p:cNvSpPr txBox="1"/>
          <p:nvPr/>
        </p:nvSpPr>
        <p:spPr>
          <a:xfrm>
            <a:off x="457200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7238880" y="2133720"/>
            <a:ext cx="1371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4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7T11:02:56Z</dcterms:created>
  <dc:creator>Rotherham M.B.C. </dc:creator>
  <dc:description/>
  <dc:language>en-US</dc:language>
  <cp:lastModifiedBy>.</cp:lastModifiedBy>
  <dcterms:modified xsi:type="dcterms:W3CDTF">2010-03-12T08:33:45Z</dcterms:modified>
  <cp:revision>18</cp:revision>
  <dc:subject/>
  <dc:title>German Foreign Policy</dc:title>
</cp:coreProperties>
</file>